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chomp.wav" ContentType="audio/x-wav"/>
  <Override PartName="/ppt/media/image8.jpeg" ContentType="image/jpeg"/>
  <Override PartName="/ppt/media/image2.jpeg" ContentType="image/jpeg"/>
  <Override PartName="/ppt/media/explosion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crunch.wav" ContentType="audio/x-wav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82FF-585B-46AD-AE02-702CC1BCD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D0AB-5C57-4580-8C00-A878D827EC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EA2D-6294-4497-BF52-2DE78CC7C9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F9BB-94CC-456E-BBD7-BFB9BF48BF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A7AC-947A-406C-A5DD-70FF198119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6576-E20F-431F-8544-38050C98F8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2B2F-A439-47DE-A700-4B43DFEFD9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B860-2216-4E82-B2CB-D8D94E5FCF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46D1-2D46-4AE5-9E69-805CD66782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3D79-5C7E-4A86-9D40-7C04D8AAE0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8DFE-6487-4A93-A9C8-181B289FBE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F7E8-54D9-44EB-BC61-7447BF0C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CF5E-546D-4ECF-B511-CFB946B5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79A7-8F41-4FD0-ADC2-C6D569CB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BFEF-A34D-4F79-A57E-5DB126A37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5725-9752-48BA-92D2-DDF38C58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C6E2-A594-43B5-B7AF-9529BE35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0F4D-ED88-4A69-BF33-97441B2D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98EC-2F9A-4EAE-85D8-17701590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91A8-ECA1-499B-8861-EE3696AD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D2A2-7386-4012-83CC-E142F264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485D-6B00-4DF7-90F5-E3BBF279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51DB-1C6E-466A-82BE-610EEE3D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1AB0-DB34-4190-BF89-A5C2F6E4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DAF2-B2D9-427A-85AF-3728957B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F298-8492-4DE2-AA20-2544B9E1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4E01-5A25-462B-8D34-FDD530CB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254E-D3F9-4FC2-9AB0-D6F8F6F8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B2D8-8C38-44BF-9463-44F75DE1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ADC4-0953-4861-9B2C-2B1BC41F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08DB-41AE-484A-B62E-523B71B1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195F-6799-4A7A-B748-262A387F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22E8-9E8D-4B9C-9C83-C4661E89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69AC-CB1C-4D4C-865B-ADB30364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71B2-4FEB-4464-9061-EA1B3F98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1185-028F-402F-932E-6D5E8D8B19D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EEDE-F054-4640-8966-6FC42DCED85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audio" Target="../media/crunch.wav"/><Relationship Id="rId8" Type="http://schemas.openxmlformats.org/officeDocument/2006/relationships/audio" Target="../media/crunch.wav"/><Relationship Id="rId9" Type="http://schemas.openxmlformats.org/officeDocument/2006/relationships/audio" Target="../media/crunch.wav"/><Relationship Id="rId10" Type="http://schemas.openxmlformats.org/officeDocument/2006/relationships/audio" Target="../media/explosion.wav"/><Relationship Id="rId11" Type="http://schemas.openxmlformats.org/officeDocument/2006/relationships/audio" Target="../media/explosion.wav"/><Relationship Id="rId12" Type="http://schemas.openxmlformats.org/officeDocument/2006/relationships/audio" Target="../media/explosion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audio" Target="../media/crunch.wav"/><Relationship Id="rId8" Type="http://schemas.openxmlformats.org/officeDocument/2006/relationships/audio" Target="../media/crunch.wav"/><Relationship Id="rId9" Type="http://schemas.openxmlformats.org/officeDocument/2006/relationships/audio" Target="../media/explosion.wav"/><Relationship Id="rId10" Type="http://schemas.openxmlformats.org/officeDocument/2006/relationships/audio" Target="../media/explosion.wav"/><Relationship Id="rId11" Type="http://schemas.openxmlformats.org/officeDocument/2006/relationships/audio" Target="../media/crunch.wav"/><Relationship Id="rId12" Type="http://schemas.openxmlformats.org/officeDocument/2006/relationships/audio" Target="../media/explosion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6"/>
          <p:cNvSpPr/>
          <p:nvPr/>
        </p:nvSpPr>
        <p:spPr>
          <a:xfrm>
            <a:off x="64008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640080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8" descr="blue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30" name="Rounded Rectangular Callout 4"/>
          <p:cNvSpPr/>
          <p:nvPr/>
        </p:nvSpPr>
        <p:spPr>
          <a:xfrm>
            <a:off x="5105520" y="3048120"/>
            <a:ext cx="3352680" cy="2666880"/>
          </a:xfrm>
          <a:prstGeom prst="wedgeRoundRectCallout">
            <a:avLst>
              <a:gd name="adj1" fmla="val -101467"/>
              <a:gd name="adj2" fmla="val 87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ation is brought to you b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©2014 by Robin L. Simm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Quick Test, Part 1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762120" y="1676520"/>
            <a:ext cx="76197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sentence that has no errors in struc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6" descr="studygirl.jpg"/>
          <p:cNvPicPr/>
          <p:nvPr/>
        </p:nvPicPr>
        <p:blipFill>
          <a:blip r:embed="rId1"/>
          <a:stretch/>
        </p:blipFill>
        <p:spPr>
          <a:xfrm>
            <a:off x="1828800" y="3048120"/>
            <a:ext cx="2025720" cy="3504960"/>
          </a:xfrm>
          <a:prstGeom prst="rect">
            <a:avLst/>
          </a:prstGeom>
          <a:ln w="0">
            <a:noFill/>
          </a:ln>
        </p:spPr>
      </p:pic>
      <p:sp>
        <p:nvSpPr>
          <p:cNvPr id="185" name="Rounded Rectangular Callout 8"/>
          <p:cNvSpPr/>
          <p:nvPr/>
        </p:nvSpPr>
        <p:spPr>
          <a:xfrm>
            <a:off x="5715000" y="4191120"/>
            <a:ext cx="2057400" cy="1828800"/>
          </a:xfrm>
          <a:prstGeom prst="wedgeRoundRectCallout">
            <a:avLst>
              <a:gd name="adj1" fmla="val -175712"/>
              <a:gd name="adj2" fmla="val -3150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see how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yo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251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751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457200" y="175248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rking dogs, kittens that were meowing, and squawking parakeets greet the pet shop visi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rking dogs, meowing kittens, and squawking parakeets greet the pet shop visi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gs that bark, kittens that meow, and parakeets squawking greet the pet shop visi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457200" y="1752480"/>
            <a:ext cx="8229600" cy="43434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rking dogs, kittens that were meowing, and squawking parakeets greet the pet shop visi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arking dogs, meowing kittens, and squawking parakeets greet the pet shop visi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gs that bark, kittens that meow, and parakeets squawking greet the pet shop visi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457200" y="182880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class, Samuel spent his time flirting with Brittney, eating candy, and doodling on the assignment 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class, Samuel spent his time flirting with Brittney, he ate candy, and doodling on the assignment 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class, Samuel spent his time to flirt with Brittney, to eat candy, and doodling on the assignment 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457200" y="1828800"/>
            <a:ext cx="8229600" cy="44197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uring class, Samuel spent his time flirting with Brittney, eating candy, and doodling on the assignment 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class, Samuel spent his time flirting with Brittney, he ate candy, and doodling on the assignment 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class, Samuel spent his time to flirt with Brittney, to eat candy, and doodling on the assignment 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ex looked everywhere for his math book—under the bed, on his desk, and he searched inside the refrige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ex looked everywhere for his math book—viewing under the bed, searching on his desk, and inside the refrige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ex looked everywhere for his math book—under the bed, on his desk, and inside the refrige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ex looked everywhere for his math book—under the bed, on his desk, and he searched inside the refrige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ex looked everywhere for his math book—viewing under the bed, searching on his desk, and inside the refrige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lex looked everywhere for his math book—under the bed, on his desk, and inside the refrige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anager wanted staff who arrived on time, smiled at the customers, and didn’t snack on the chicken nug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anager wanted staff who arrived on time, would be smiling at the customers, and would not be snacking on the chicken nug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anager wanted staff who arrived on time, smiled at the customers, and no snacking on the chicken nug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457200" y="1828800"/>
            <a:ext cx="8229600" cy="449568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 manager wanted staff who arrived on time, smiled at the customers, and didn’t snack on the chicken nug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anager wanted staff who arrived on time, would be smiling at the customers, and would not be snacking on the chicken nug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anager wanted staff who arrived on time, smiled at the customers, and no snacking on the chicken nug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fter giving Jeremy her phone number, Felicia had to tolerate his late night calls, stupid conversations, and requests for her math ho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fter giving Jeremy her phone number, Felicia had to tolerate his late night calls, the fact that he carried on stupid conversations, and requests for her math ho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fter giving Jeremy her phone number, Felicia had to tolerate being woken up late at night, having stupid conversations, and he constantly requested her math ho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457200" y="1752480"/>
            <a:ext cx="8229600" cy="487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After giving Jeremy her phone number, Felicia had to tolerate his late night calls, stupid conversations, and requests for her math ho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fter giving Jeremy her phone number, Felicia had to tolerate his late night calls, the fact that he carried on stupid conversations, and requests for her math ho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fter giving Jeremy her phone number, Felicia had to tolerate being woken up late at night, having stupid conversations, and he constantly requested her math ho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Quick Test, Part 2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762120" y="1676520"/>
            <a:ext cx="76197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correct word or phrase within the context suggested by the sent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5" descr="studygirl02.JPG"/>
          <p:cNvPicPr/>
          <p:nvPr/>
        </p:nvPicPr>
        <p:blipFill>
          <a:blip r:embed="rId1"/>
          <a:stretch/>
        </p:blipFill>
        <p:spPr>
          <a:xfrm>
            <a:off x="5356080" y="3200400"/>
            <a:ext cx="1924200" cy="3327480"/>
          </a:xfrm>
          <a:prstGeom prst="rect">
            <a:avLst/>
          </a:prstGeom>
          <a:ln w="0">
            <a:noFill/>
          </a:ln>
        </p:spPr>
      </p:pic>
      <p:sp>
        <p:nvSpPr>
          <p:cNvPr id="204" name="Rounded Rectangular Callout 8"/>
          <p:cNvSpPr/>
          <p:nvPr/>
        </p:nvSpPr>
        <p:spPr>
          <a:xfrm>
            <a:off x="1676520" y="4572000"/>
            <a:ext cx="2057400" cy="1523880"/>
          </a:xfrm>
          <a:prstGeom prst="wedgeRoundRectCallout">
            <a:avLst>
              <a:gd name="adj1" fmla="val 165550"/>
              <a:gd name="adj2" fmla="val -5243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ry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differ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6861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7361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45720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sta boiling in water, __________, and garlic bread baking in the oven welcomed Francisco as he opened the do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mmered tomato sauce in the 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mato sauce simmering in the 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mato sauce that simmered in the 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ucy tomatoes that were simmering in the 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457200" y="1828800"/>
            <a:ext cx="8229600" cy="403848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sta boiling in water, __________, and garlic bread baking in the oven welcomed Francisco as he opened the do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mmered tomato sauce in the 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omato sauce simmering in the 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mato sauce that simmered in the 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ucy tomatoes that were simmering in the 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457200" y="16765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our vacation in the Bahamas, we hope __________, to enjoy beautiful sunsets, and to dance ourselves dizzy at reggae club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we eat delicious sea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eating delicious seafood occ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eat delicious sea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ting delicious sea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457200" y="1676520"/>
            <a:ext cx="8229600" cy="41907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our vacation in the Bahamas, we hope __________, to enjoy beautiful sunsets, and to dance ourselves dizzy at reggae club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we eat delicious sea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eating delicious seafood occ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o eat delicious sea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ting delicious sea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380880" y="1905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aren wished Ray chewed with his mouth closed, for otherwise he was everything she wanted in a date; he was tall, intelligent, and _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looked g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ing good lo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e handsome man to look 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nds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380880" y="1905120"/>
            <a:ext cx="8305920" cy="38862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aren wished Ray chewed with his mouth closed, for otherwise he was everything she wanted in a date; he was tall, intelligent, and _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looked g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ing good lo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e handsome man to look 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ands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parallel01_edit.JPG"/>
          <p:cNvPicPr/>
          <p:nvPr/>
        </p:nvPicPr>
        <p:blipFill>
          <a:blip r:embed="rId1"/>
          <a:stretch/>
        </p:blipFill>
        <p:spPr>
          <a:xfrm>
            <a:off x="3232080" y="1981080"/>
            <a:ext cx="2635200" cy="48578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arallel Structur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Rounded Rectangular Callout 7"/>
          <p:cNvSpPr/>
          <p:nvPr/>
        </p:nvSpPr>
        <p:spPr>
          <a:xfrm>
            <a:off x="304920" y="3809880"/>
            <a:ext cx="2438280" cy="1828800"/>
          </a:xfrm>
          <a:prstGeom prst="wedgeRoundRectCallout">
            <a:avLst>
              <a:gd name="adj1" fmla="val 106949"/>
              <a:gd name="adj2" fmla="val -4272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I maintai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parallelis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participl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ounded Rectangular Callout 8"/>
          <p:cNvSpPr/>
          <p:nvPr/>
        </p:nvSpPr>
        <p:spPr>
          <a:xfrm>
            <a:off x="6629400" y="4114800"/>
            <a:ext cx="2209680" cy="1600200"/>
          </a:xfrm>
          <a:prstGeom prst="wedgeRoundRectCallout">
            <a:avLst>
              <a:gd name="adj1" fmla="val -134851"/>
              <a:gd name="adj2" fmla="val -5690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should I use a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infinitiv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901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457200" y="175248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win Laurie’s love, Albert visited the florist for roses, the drugstore for a box of chocolates, and _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ught an expensive gold necklace at the jewelry st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jeweler for an expensive gold neck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jeweler where he bought an expensive gold neck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buy an expensive gold neck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457200" y="1752480"/>
            <a:ext cx="8229600" cy="48006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win Laurie’s love, Albert visited the florist for roses, the drugstore for a box of chocolates, and _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ught an expensive gold necklace at the jewelry st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 jeweler for an expensive gold neck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jeweler where he bought an expensive gold neck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buy an expensive gold neck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457200" y="182880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imberly won’t date Terry because he is too short, too noisy, and 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cause he picks his teeth with his fin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o impol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 the most impolite man she has ever 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cking his teeth with his fin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457200" y="1828800"/>
            <a:ext cx="8229600" cy="358128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imberly won’t date Terry because he is too short, too noisy, and 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cause he picks his teeth with his fin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oo impol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 the most impolite man she has ever 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cking his teeth with his fin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6"/>
          <p:cNvSpPr/>
          <p:nvPr/>
        </p:nvSpPr>
        <p:spPr>
          <a:xfrm>
            <a:off x="64008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640080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8" descr="blue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223" name="Rounded Rectangular Callout 4"/>
          <p:cNvSpPr/>
          <p:nvPr/>
        </p:nvSpPr>
        <p:spPr>
          <a:xfrm>
            <a:off x="4495680" y="1828800"/>
            <a:ext cx="4267440" cy="3581280"/>
          </a:xfrm>
          <a:prstGeom prst="wedgeRoundRectCallout">
            <a:avLst>
              <a:gd name="adj1" fmla="val -83449"/>
              <a:gd name="adj2" fmla="val 2619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additional handouts and exercises o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parallel stru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Go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chompchomp.co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3"/>
          <p:cNvSpPr/>
          <p:nvPr/>
        </p:nvSpPr>
        <p:spPr>
          <a:xfrm>
            <a:off x="2286000" y="28954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thumbsup_edit.JPG"/>
          <p:cNvPicPr/>
          <p:nvPr/>
        </p:nvPicPr>
        <p:blipFill>
          <a:blip r:embed="rId1"/>
          <a:stretch/>
        </p:blipFill>
        <p:spPr>
          <a:xfrm>
            <a:off x="4800600" y="762120"/>
            <a:ext cx="3218040" cy="5790960"/>
          </a:xfrm>
          <a:prstGeom prst="rect">
            <a:avLst/>
          </a:prstGeom>
          <a:ln w="0">
            <a:noFill/>
          </a:ln>
        </p:spPr>
      </p:pic>
      <p:sp>
        <p:nvSpPr>
          <p:cNvPr id="136" name="Rounded Rectangular Callout 2"/>
          <p:cNvSpPr/>
          <p:nvPr/>
        </p:nvSpPr>
        <p:spPr>
          <a:xfrm>
            <a:off x="990720" y="2286000"/>
            <a:ext cx="2514600" cy="3505320"/>
          </a:xfrm>
          <a:prstGeom prst="wedgeRoundRectCallout">
            <a:avLst>
              <a:gd name="adj1" fmla="val 144865"/>
              <a:gd name="adj2" fmla="val -2571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ation covers distinguishing betwee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parall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non-parall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1523880"/>
            <a:ext cx="731520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parallelism item on an objective test might look like thi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457200" y="1676520"/>
            <a:ext cx="81532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65120" indent="-46512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ileen bought new shoes for the party, a gold charm for her mother, and to treat her best friend Maria to lun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ileen decided to buy new shoes for the party, purchasing a gold charm for her mother, and treating her best friend Maria to lun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ileen purchased new shoes for the party, a gold charm for her mother, and lunch for Maria, her best frie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457200" y="1676520"/>
            <a:ext cx="8153280" cy="51051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65120" indent="-46512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ileen bought new shoes for the party, a gold charm for her mother, and to treat her best friend Maria to lun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ileen decided to buy new shoes for the party, purchasing a gold charm for her mother, and treating her best friend Maria to lun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400"/>
              </a:spcAft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ileen purchased new shoes for the party, a gold charm for her mother, and lunch for Maria, her best frie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457200" y="1523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Direction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Choose the sentence that has no errors in struc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027"/>
          <p:cNvSpPr/>
          <p:nvPr/>
        </p:nvSpPr>
        <p:spPr>
          <a:xfrm>
            <a:off x="685800" y="22860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Parallel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looks like th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tems in a series must have parallel structur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4" name="Picture 7" descr="apple_edit.JPG"/>
          <p:cNvPicPr/>
          <p:nvPr/>
        </p:nvPicPr>
        <p:blipFill>
          <a:blip r:embed="rId1"/>
          <a:stretch/>
        </p:blipFill>
        <p:spPr>
          <a:xfrm>
            <a:off x="2438280" y="2965320"/>
            <a:ext cx="884520" cy="844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apple_edit.JPG"/>
          <p:cNvPicPr/>
          <p:nvPr/>
        </p:nvPicPr>
        <p:blipFill>
          <a:blip r:embed="rId2"/>
          <a:stretch/>
        </p:blipFill>
        <p:spPr>
          <a:xfrm>
            <a:off x="3962520" y="2965320"/>
            <a:ext cx="884160" cy="844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apple_edit.JPG"/>
          <p:cNvPicPr/>
          <p:nvPr/>
        </p:nvPicPr>
        <p:blipFill>
          <a:blip r:embed="rId3"/>
          <a:stretch/>
        </p:blipFill>
        <p:spPr>
          <a:xfrm>
            <a:off x="6202440" y="2965320"/>
            <a:ext cx="884160" cy="844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bomb_edit.JPG"/>
          <p:cNvPicPr/>
          <p:nvPr/>
        </p:nvPicPr>
        <p:blipFill>
          <a:blip r:embed="rId4"/>
          <a:stretch/>
        </p:blipFill>
        <p:spPr>
          <a:xfrm>
            <a:off x="2438280" y="4452840"/>
            <a:ext cx="909720" cy="1185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bomb_edit.JPG"/>
          <p:cNvPicPr/>
          <p:nvPr/>
        </p:nvPicPr>
        <p:blipFill>
          <a:blip r:embed="rId5"/>
          <a:stretch/>
        </p:blipFill>
        <p:spPr>
          <a:xfrm>
            <a:off x="3962520" y="4452840"/>
            <a:ext cx="909360" cy="1185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bomb_edit.JPG"/>
          <p:cNvPicPr/>
          <p:nvPr/>
        </p:nvPicPr>
        <p:blipFill>
          <a:blip r:embed="rId6"/>
          <a:stretch/>
        </p:blipFill>
        <p:spPr>
          <a:xfrm>
            <a:off x="6253200" y="4419720"/>
            <a:ext cx="909720" cy="118584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4"/>
          <p:cNvSpPr/>
          <p:nvPr/>
        </p:nvSpPr>
        <p:spPr>
          <a:xfrm>
            <a:off x="990720" y="312408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5"/>
          <p:cNvSpPr/>
          <p:nvPr/>
        </p:nvSpPr>
        <p:spPr>
          <a:xfrm>
            <a:off x="3429000" y="31240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16"/>
          <p:cNvSpPr/>
          <p:nvPr/>
        </p:nvSpPr>
        <p:spPr>
          <a:xfrm>
            <a:off x="4952880" y="312408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990720" y="495288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3429000" y="49528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19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20"/>
          <p:cNvSpPr/>
          <p:nvPr/>
        </p:nvSpPr>
        <p:spPr>
          <a:xfrm>
            <a:off x="7086600" y="31240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21"/>
          <p:cNvSpPr/>
          <p:nvPr/>
        </p:nvSpPr>
        <p:spPr>
          <a:xfrm>
            <a:off x="7086600" y="49528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181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82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run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582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582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run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3582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883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run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883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01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s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401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901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s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901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702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s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702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ere is an example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Rectangle 1027"/>
          <p:cNvSpPr/>
          <p:nvPr/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an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at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pizza,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wipe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lips, 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burpe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th content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3" descr="thumbsup_edit.JPG"/>
          <p:cNvPicPr/>
          <p:nvPr/>
        </p:nvPicPr>
        <p:blipFill>
          <a:blip r:embed="rId1"/>
          <a:stretch/>
        </p:blipFill>
        <p:spPr>
          <a:xfrm>
            <a:off x="6332400" y="3124080"/>
            <a:ext cx="2075040" cy="3733920"/>
          </a:xfrm>
          <a:prstGeom prst="rect">
            <a:avLst/>
          </a:prstGeom>
          <a:ln w="0">
            <a:noFill/>
          </a:ln>
        </p:spPr>
      </p:pic>
      <p:sp>
        <p:nvSpPr>
          <p:cNvPr id="161" name="Rounded Rectangular Callout 4"/>
          <p:cNvSpPr/>
          <p:nvPr/>
        </p:nvSpPr>
        <p:spPr>
          <a:xfrm>
            <a:off x="990720" y="4191120"/>
            <a:ext cx="3504960" cy="2133360"/>
          </a:xfrm>
          <a:prstGeom prst="wedgeRoundRectCallout">
            <a:avLst>
              <a:gd name="adj1" fmla="val 126518"/>
              <a:gd name="adj2" fmla="val -3034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ast tense verb;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wip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ast tense verb; 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burp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ast tense ver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781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281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27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Non-parallel structur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s like th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152424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Don’t create problems by mixing grammatical elements.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4" name="Picture 7" descr="apple_edit.JPG"/>
          <p:cNvPicPr/>
          <p:nvPr/>
        </p:nvPicPr>
        <p:blipFill>
          <a:blip r:embed="rId1"/>
          <a:stretch/>
        </p:blipFill>
        <p:spPr>
          <a:xfrm>
            <a:off x="2438280" y="3346560"/>
            <a:ext cx="884520" cy="844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apple_edit.JPG"/>
          <p:cNvPicPr/>
          <p:nvPr/>
        </p:nvPicPr>
        <p:blipFill>
          <a:blip r:embed="rId2"/>
          <a:stretch/>
        </p:blipFill>
        <p:spPr>
          <a:xfrm>
            <a:off x="3962520" y="3346560"/>
            <a:ext cx="884160" cy="844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apple_edit.JPG"/>
          <p:cNvPicPr/>
          <p:nvPr/>
        </p:nvPicPr>
        <p:blipFill>
          <a:blip r:embed="rId3"/>
          <a:stretch/>
        </p:blipFill>
        <p:spPr>
          <a:xfrm>
            <a:off x="3962520" y="5181480"/>
            <a:ext cx="884160" cy="844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bomb_edit.JPG"/>
          <p:cNvPicPr/>
          <p:nvPr/>
        </p:nvPicPr>
        <p:blipFill>
          <a:blip r:embed="rId4"/>
          <a:stretch/>
        </p:blipFill>
        <p:spPr>
          <a:xfrm>
            <a:off x="2438280" y="4834080"/>
            <a:ext cx="909720" cy="1185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bomb_edit.JPG"/>
          <p:cNvPicPr/>
          <p:nvPr/>
        </p:nvPicPr>
        <p:blipFill>
          <a:blip r:embed="rId5"/>
          <a:stretch/>
        </p:blipFill>
        <p:spPr>
          <a:xfrm>
            <a:off x="6253200" y="3124080"/>
            <a:ext cx="909720" cy="1185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bomb_edit.JPG"/>
          <p:cNvPicPr/>
          <p:nvPr/>
        </p:nvPicPr>
        <p:blipFill>
          <a:blip r:embed="rId6"/>
          <a:stretch/>
        </p:blipFill>
        <p:spPr>
          <a:xfrm>
            <a:off x="6253200" y="4757760"/>
            <a:ext cx="909720" cy="11858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4"/>
          <p:cNvSpPr/>
          <p:nvPr/>
        </p:nvSpPr>
        <p:spPr>
          <a:xfrm>
            <a:off x="990720" y="365760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15"/>
          <p:cNvSpPr/>
          <p:nvPr/>
        </p:nvSpPr>
        <p:spPr>
          <a:xfrm>
            <a:off x="3429000" y="365760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16"/>
          <p:cNvSpPr/>
          <p:nvPr/>
        </p:nvSpPr>
        <p:spPr>
          <a:xfrm>
            <a:off x="4952880" y="365760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17"/>
          <p:cNvSpPr/>
          <p:nvPr/>
        </p:nvSpPr>
        <p:spPr>
          <a:xfrm>
            <a:off x="990720" y="5334120"/>
            <a:ext cx="1371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18"/>
          <p:cNvSpPr/>
          <p:nvPr/>
        </p:nvSpPr>
        <p:spPr>
          <a:xfrm>
            <a:off x="3429000" y="5334120"/>
            <a:ext cx="457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19"/>
          <p:cNvSpPr/>
          <p:nvPr/>
        </p:nvSpPr>
        <p:spPr>
          <a:xfrm>
            <a:off x="5029200" y="5334120"/>
            <a:ext cx="1143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20"/>
          <p:cNvSpPr/>
          <p:nvPr/>
        </p:nvSpPr>
        <p:spPr>
          <a:xfrm>
            <a:off x="7086600" y="365760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21"/>
          <p:cNvSpPr/>
          <p:nvPr/>
        </p:nvSpPr>
        <p:spPr>
          <a:xfrm>
            <a:off x="7086600" y="5334120"/>
            <a:ext cx="457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881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282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run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282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282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run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282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583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s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583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01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s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401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901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run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901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702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s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4702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problem looks like this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Rectangle 1027"/>
          <p:cNvSpPr/>
          <p:nvPr/>
        </p:nvSpPr>
        <p:spPr>
          <a:xfrm>
            <a:off x="685800" y="22096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5716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an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at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pizza,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wipe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lips, 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burping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th content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4" descr="unhappy_edit.JPG"/>
          <p:cNvPicPr/>
          <p:nvPr/>
        </p:nvPicPr>
        <p:blipFill>
          <a:blip r:embed="rId1"/>
          <a:stretch/>
        </p:blipFill>
        <p:spPr>
          <a:xfrm>
            <a:off x="6629400" y="3048120"/>
            <a:ext cx="2039760" cy="3809880"/>
          </a:xfrm>
          <a:prstGeom prst="rect">
            <a:avLst/>
          </a:prstGeom>
          <a:ln w="0">
            <a:noFill/>
          </a:ln>
        </p:spPr>
      </p:pic>
      <p:sp>
        <p:nvSpPr>
          <p:cNvPr id="181" name="Rounded Rectangular Callout 7"/>
          <p:cNvSpPr/>
          <p:nvPr/>
        </p:nvSpPr>
        <p:spPr>
          <a:xfrm>
            <a:off x="1143000" y="4191120"/>
            <a:ext cx="3733920" cy="2361960"/>
          </a:xfrm>
          <a:prstGeom prst="wedgeRoundRectCallout">
            <a:avLst>
              <a:gd name="adj1" fmla="val 118976"/>
              <a:gd name="adj2" fmla="val -3555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loo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you’v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don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wip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ast tense verbs, bu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burp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esent participl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851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351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1997 - 2014 by Robin L. Simmons. All Rights Reserved.</dc:description>
  <cp:keywords>parallelism parallel non-parallel structure grammar Grammar Bytes! Robin L. Simmons</cp:keywords>
  <dc:language>en-US</dc:language>
  <cp:lastModifiedBy>Hilary C Wiltshire</cp:lastModifiedBy>
  <dcterms:modified xsi:type="dcterms:W3CDTF">2014-02-19T19:47:16Z</dcterms:modified>
  <cp:revision>503</cp:revision>
  <dc:subject/>
  <dc:title>Parallelism</dc:title>
</cp:coreProperties>
</file>